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5545105-311F-4D60-A807-5BF28B3E776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934A27-82C9-446D-A6C3-54AB7000E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3D9BB85-0A27-44A2-AB94-56D08449974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98F420-0432-4A3F-A066-2C6D9B0026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14F3D8D-6264-4618-AA4C-1803E33E5D9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C247A9C-FD28-40DB-8D96-F7652F33435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E9A36E-364B-4195-AF24-279E05917F5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CBEDC60-BF31-43DA-A4D4-9650E2C1822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7D413A8-344D-421D-B508-E82C5A9ADF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685F002-DC3C-430D-B2F7-07A0E1E72A2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350EF61-D5B8-40A4-97AB-58246E9573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01FD7CF-BC2F-484A-9F39-B5FE1F241B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04C03E-377C-4C79-8212-6C0001678F4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673307-DB80-4575-9C85-27CF936398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1D4898-ACB3-4EE6-B61C-36F1C44668E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180379-05C6-4855-933B-AFACB9F353F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92E026D-CD10-437B-A208-416802DC03E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21D701-0412-465D-A5F4-4144C83A3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8893C0-8829-4C60-A21B-581633ADAD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1ADFA9-E8D6-441F-8E11-65239150F7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2FC77-0637-45D3-BF35-3104C6A0A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CE93C3-7DB8-4CCF-AA78-AD59D765A7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C57D37-1DDC-4EE3-8443-BF792EFB60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40FA45-06C3-4D1D-8B6C-D00B8D468E2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94091-5E60-4DB9-9A28-BEB03921821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C9EF68-AACA-4418-8ECC-B0C04C3A7C0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BAE63CB-4E2D-49E5-8BCD-333528ABEDF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F5A1D3-5DB9-42B2-8C14-08E7CC38F8A0}"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8BFEF-F1CE-4FB4-B7BB-A0C745AAD7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B7C211-D4D5-4F72-9168-E8A416CCB21D}"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0E336-9C24-4A67-9DB1-E63D1C5154A3}"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F9E2A3-D351-4389-987B-DAD0A4405A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A1A01-7321-4D50-9084-E4D817F379E7}"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B5849-086E-4DE0-AAE4-41E54377144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D219D-BE17-47A4-8764-F45737DF608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27679-DD2D-4D8E-A5F2-8FD95364CB9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9EBBD5-2173-4F69-B932-5F5D722E6EE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0FC5F0-F363-4DE4-95A0-3B1296BBF3C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A3101-008F-4B94-A04A-7E42C9F52E2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8D16F7-CE51-40C6-9463-D6A3D1801A9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2265D3-F097-4589-B7D2-F71757DF267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01BFDC-DE35-4C37-9C6E-978BC74A119F}"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7088D-D6A7-4208-B77E-3BA8E120B1EF}"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7BF1C-7DFB-434A-8922-BD885D1E1935}"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F778E-9881-43C2-9A7C-83255654A8F2}"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4833E5-7C97-4F72-9BEE-B421D7082883}"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5844FF-1F33-450D-9BE6-2292E7E8A90E}"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F93C1C-2FA4-47DB-B8AD-4E18ECA83136}"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270659-4E1A-4974-A7EB-BADC74BD586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8684D-9579-40F4-92F5-F87EF061FA8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D63144-5916-43A0-8C42-1B9A7ABBB03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61FA6-53A2-400A-8A36-304423103F5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60DC3B-5046-4068-B800-34F5D3007E9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118F87-3C2A-4619-8AA3-D7494A0A5D7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21121-E0F2-43E2-B59E-0E0085A3B305}"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C4B61-5239-4C17-87E8-FBB830A8EF60}"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56BCB5-9668-4248-9B07-DF137B4F324B}"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CDA18A-FC6D-4962-9132-E05B5D3DAC7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971CD-D5BB-4E54-870D-875EC1A2A56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53846E-B55B-4E30-8AFA-64FD2EB5843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C0C9D4-5A4B-4F91-A628-98E05D000355}"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B5CE9-B0B8-42FD-9BC7-33CA9D3C9E7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A642D-F038-4F43-82A1-A3C3B7677CDB}"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012C-D8C5-4E34-ADFD-13F66DADD394}"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993064-59A0-4CCE-97A1-5D62A29EC17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2FA402-72C9-4E2D-983D-DA6D6F94B48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34549D-04BB-4B43-9B0F-C0005C513456}"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E9848D-03DD-4E46-8A03-217CBE5EC23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D40CCF-8767-4F3D-8DB6-3040F5F5F1EC}"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64094-9A12-4E1A-89DE-BA70C062934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2F10EF-0B74-44D0-8D95-2244B4F5F64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8FF58-53E1-4D47-BF1A-803DCBB04C8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EFA0EA-73C5-4461-AB6D-3DABDE00819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6F9965-75C2-4F88-9E95-EC153779D29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F84E74A-9588-46D4-B79F-A13814B87CF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1304A3-BEDD-459B-84CA-B2920FC6FEC0}"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C37F36-EC0F-4C81-87C8-771DD0AB2B7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9EF5973-5546-43C9-88B8-4242488AE5A4}"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4EF25B-D4D4-4C7C-B951-4E6704C39B2C}"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A58D18-1C5E-4FA1-A33B-2062E8256B7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DDDCF6-1181-4A1D-91F0-DA4CAFEFE3F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642DB-EC5E-445F-A109-743AEBD249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DC973-BB73-40D4-B48B-020892DA0A2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D4C56-7740-4998-A4F4-5FCAAEF1AD35}"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21E226-E7B8-4088-8918-8BA26409007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138F7A0-5467-464A-81EA-DCB5554D8336}"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64387-8FC0-4EB1-9622-A662335CD4A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ACE971-B0D1-4AF7-86C0-0FE0D5F68865}"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B6B7B-C26B-48BC-90F7-1DD12B6F674A}"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EE6E53-CB3B-4529-924E-7FF0DF0B4BA8}"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72E5F-B016-4209-9272-1455D0EE011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03658D-0340-4286-A0CD-EE63D4C320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032738-7022-4CC7-AF66-3321BD2D4AC5}"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C3DFB-B6FD-49EA-884A-EC269C5666DC}"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3BFE4-D119-4BCD-AEB8-34CE152C1C4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1FEAAB-6601-4F8A-A65D-C7CF24276C9D}"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8DC01AC-7306-4652-84EF-D011409649FF}"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23DEC8-10F5-4181-B004-66CFE148B6EB}"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9F0FE-0F61-49A8-8D8E-03EF1AF6B22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6A07BC-B28A-489D-8858-661BAA20CEDA}"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67BA5E-7704-4C89-A921-7AD7F56450C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B569EA-AD8A-4B55-AA0D-22E5AA155E72}"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F38855-DF3C-42FE-A291-58B728A9197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DB4790-F3DD-4319-8C21-7D7EC3601D5E}"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5844FF-EE11-4E6E-90A1-C748B4831000}"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CADFBC-5DB6-4CD9-8820-9AE7AAABB04B}"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29E06C-71D6-4FE2-B543-CA69461043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506C885-41D8-4C85-93F1-465B3D7DFEC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63E57E-45C0-4A87-8D95-197A97381AF3}"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1B419CB-2249-4236-A569-761777A657F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05F813-640B-4E86-9F69-DA7E3CC72EE0}"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0BF774-A5B7-4B26-B4B5-4D47F7A7478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A76C4-9ABE-4899-89CF-D468DEEE343C}"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6FFA7B-D288-42AC-A39D-0F32F06BEACA}"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3602A-7D32-4F6F-921B-8132A4B692C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203CB4-14FF-4C27-B3A4-680DA7241B19}"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4A471-0862-4872-BFD7-130C35E98542}"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E86A27-1BFF-49A0-AF4E-7E2EB288F564}"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15C68D-3871-4278-BF1B-E83BEF02979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C61C2E-706E-4307-85DA-DEA2F2D5C60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47E3EC-AA8D-4534-86B3-2F94DDF57F21}"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B5985-F272-47A1-9321-52315481D4D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F5484E-3ACE-4195-80EF-769E8D340A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711C5E-208C-4F0E-994F-AB860A8939A8}"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7F6F2-0906-48AF-B0D7-1E354E2BE8B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376EF45-9CCB-46D8-8B3A-9E8332F3CA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5C97E8-B85D-457C-A16D-CBD45D41B004}"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32F8D-921B-4139-9B0A-D8B1A417A5D2}"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1E2EFB-FB57-4F09-8DCB-4C3DB523BC58}"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423A24-E050-4823-A968-4BD61C1E6160}"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8504B4-CA5B-4547-8A13-59CA12429F8E}"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ED880B-5165-4E8F-B7BD-CA7B7CFAE53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816EB2-9225-4B36-A300-0E890E7D30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174DE-C535-429F-B48C-17C07AC258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582A5-6385-4968-B83B-A4D3871FB03A}"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85FFF3-D36E-40CA-AA70-27793AB4C4D6}"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4FD0AD-FA90-4849-BFE9-AEB4B276E6A0}"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DCCD1-F6A5-45C0-90E5-8A50D29740B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A9495-505B-4C49-8D12-CDC073A98CBB}"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A591E-0CC5-4F04-9AB5-3B0E769BA61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51BBD2-BE0E-4935-AA3C-5ACDA2935A9E}"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AAA70C-F812-471C-9B7D-2716D70102D8}"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E93FD-69C5-4F03-B714-3E990623D89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39D9E1-F783-42A3-8BB5-62AD3B4FBC4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9CD77-5D45-4351-ACFB-3BE4350C58A7}"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F4BDF-0088-4BCC-84C6-C51EF42F7A62}"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697057-0AEB-43A9-96C4-120FCF2AA825}"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96FC5F-E296-4B14-A2AC-F0FEF1556263}"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53BC9F-CBE4-4D37-8B1F-AF630BE54CF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04FCC-7C55-41B2-A3C0-6985E7E692E5}"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FFF8D-0FBF-4F73-9287-550BFA1502E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D0748B-202B-436F-9693-E5360F23CA06}"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CB04E9-3533-4C33-B074-80BCECA2088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258CD8E-A6F8-46D7-A6CE-DE776CFC51C7}"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37605-C2A6-40AA-A2EB-EDDC9287016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03A056-F73E-4E79-8B81-DFD75F57CE2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9ABAFA-EBA3-4490-805E-F90330A816A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6DF99-DD02-4310-9086-7ADF29A94A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964C0-AE50-4392-A964-43F32EB4947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9059A-4C81-49A3-A3AE-EE4AC7F6E4A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41638E-2C6F-4340-9A03-EA3247130B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084CF-EECB-42DF-9301-15830FDF0E2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573858-82FE-4300-BF60-673E054C4F1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1E8DC4-1CC6-4369-9038-744DB86825C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0D2997-BB29-4500-BFC5-E6CA037CD015}"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59A8BA-08B9-4427-9D25-428C5052FFC9}"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93C828-BCA0-4B15-B7AD-800BE8B91E69}"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BE50A-4D8D-4F41-8DEB-97D338CFB7FC}"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3D2E25-1C04-4A8F-8D21-7DF97A457D63}"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E57F3F-F41A-41F8-A4E1-38F08AF67CF5}"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BFA43-9C2A-425A-8A9C-B26F239A80DC}"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99FEE1-B52F-4D1A-A703-727187D1DCFD}"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AAEEF8-53D0-4626-852E-5AC999EF149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454A98-42A8-48E8-9ED0-6FBD10CB8394}"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77814E-3511-48D7-B0C7-F8A93A15E1D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86CD1-9913-43EA-9443-72F1C7DD2EFE}"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6B52D-006C-4098-AC9F-C1110956A864}"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BBB3D-E7DB-48F8-9391-FB8BC304702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E21F3-157B-42D1-83F6-48A0652C652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484C6-3379-4C8B-BD46-5C4D023F573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A53EF8-59AE-447A-BB41-63EA7636861F}"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8EFD2-E14D-44A2-BE4A-7E864C1958E5}"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67F89A-9EB5-4BF2-8305-D1A2B9EE07B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0266-ECBF-4D30-8EA4-EE307A3B1A6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6132CF-5D51-4815-AC0B-0388388CFA79}"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35614-19AA-4FC3-ACC6-2E58CDAB014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3B8DB5-0BA2-4A18-B831-20BC740EB57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C6133A-1211-4C21-86AF-09C8F189345A}"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67ABD-C2A8-4E82-ABE2-33B7007C54A0}"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28BE48-D5D6-4C31-A141-EBFE5B19CB2E}"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9B9A0C-B4F4-4539-B7C2-BB5B8034C50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E0C4F0-4CEA-4E39-9E86-268B6F6E261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8D67E9-DCD1-46BD-93C3-2F7B29A8E13E}"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7483D-88BC-4506-B952-3E5811FF4BD8}"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067F4-FA34-43D8-B72A-E6CC857C997E}"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0F198-92E0-4129-83B3-E905DDE24D0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864E05-C58F-43AE-B145-EDAA0F7A64F4}"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21AB2C-BD36-4651-997C-132A7A11420B}"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A7066-4ED9-4657-B9E1-82C9AFE473EA}"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EF1B-0210-4F81-B01F-69062494148A}"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3F4CD-5994-4A51-A6B3-6DD1F56CE9E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7B8B25F-BA0B-4DE9-A6EA-EDF980B6C220}"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0B7426-3B63-4E11-AD9C-75CA95F6D21A}"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6EEC-F53F-47D4-AB4A-90207DF2916A}"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279B78-09A7-4D9C-AFA4-39975A3FB6E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486D8A-B9BF-491D-8E32-DC31A93BD4C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91C39E-E5CD-4383-A7C6-61CDEF9DF0F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F98439-CE0B-4AC4-A4AA-F37EFB2B5F4E}"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A71A88-F88F-449E-868E-93EB5B5E20B5}"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350BD9-D11C-4450-860D-543571334D2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B5EB1A9-E1E2-4192-92A8-426C05D0097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15A47-6FA2-4EEB-8CE7-D91F6D6F7D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1FED7E-2BE3-48E7-AE07-EE009288E398}"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F1055-5972-44C4-A067-BB8762121228}"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F377C-A6FF-45EF-A797-DBE3D2A4B88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311C69-DF04-4E58-90CB-E6B51DB395D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525EA4-C687-4F5F-97C3-5BC5FB5476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03151C-406E-4CE5-AE0E-79CB29025DF8}"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BA233D-DA4B-4743-86C3-472A6C4A73E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A19F29-C8A1-410E-A836-ED91D554397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4C145-52BE-43C0-9DE6-139D9AF0EB2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120E20-965B-4416-9A00-231758DB39B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DF3A4-8BE8-4CE9-A3F2-38A54DF612C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819DD-AE6D-44D8-888E-FC19AE6646C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98847-0BF5-4B71-945C-0F03195D1295}"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FB799D1-EBA1-444E-9454-1A2C6885D94A}"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DE5661-B964-4FCE-9930-676C743B0E4F}"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C549D0-0174-4BEC-AED4-8D1D0F930DB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83F1F-C24D-4108-B33E-A2B010BF2007}"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CEC81D-40B0-4813-92D0-E70FFE87BEA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F91227-D9AC-40DB-A73A-1E1078EBDDA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C73BCF-44F7-4D5B-AEDB-678DF292FA4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35DE32-969B-433F-8B34-C5FFDCC3E5C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51B819-885D-4531-9932-1F88CF779E5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E65A6-0625-4069-B7D0-1B76692B01A9}"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2F2784-0A6F-4BF3-B6BC-C3F1AF2C6EE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979884-4293-4366-96F6-4EE4A059DED7}"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2DA34-0B3F-4E0D-9CD7-DA70CF567B81}"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D75E3-17EE-4675-BB7E-1728E752C799}"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